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-3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33880" cy="457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520" y="71280"/>
            <a:ext cx="654120" cy="633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222120"/>
            <a:ext cx="415800" cy="411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767640" y="6553080"/>
            <a:ext cx="21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 Narrow"/>
              </a:rPr>
              <a:t>Mobilné satelitné si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huraya.com/corporate/newsroom/2005/thurayaDSL.htm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marsat.com/?language=EN&amp;textonly=False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6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7.png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18.png"/><Relationship Id="rId20" Type="http://schemas.openxmlformats.org/officeDocument/2006/relationships/image" Target="../media/image13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6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7.png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18.png"/><Relationship Id="rId20" Type="http://schemas.openxmlformats.org/officeDocument/2006/relationships/image" Target="../media/image13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15235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ehľad satelitnej komuniká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 Narrow"/>
              </a:rPr>
              <a:t>Mobilné satelitné sie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5029200"/>
            <a:ext cx="1125360" cy="70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105520"/>
            <a:ext cx="1523880" cy="61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934320" y="4876920"/>
            <a:ext cx="61596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371600" y="2666880"/>
            <a:ext cx="36576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24080" y="3505320"/>
            <a:ext cx="36576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0" presetSubtype="268481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0" presetSubtype="268363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0" presetSubtype="96448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n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Globalstar používa 24 Gateways, ktoré sú spravované rôznymi providermi (jeden z najväčších je Globalstar Europe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Nie všetky sú vzájomné prepojené, každý provider účtuje vlastné poplatky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Nie každý GSM operátor má roaming so všetkými Globalstar Gateways - providermi. Ak nie je roamingová zmluva uzavretá, SIM karta GSM operátora je nefunkčná! Doporučujeme SIM od Globalstar providerov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Neexistuje forma predplatených služieb, je len mesačný paušál - spoplatkovanie je delené do rôznych Zón, ďalej podľa providera, GSM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52388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181480" cy="271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26120" y="4292640"/>
            <a:ext cx="3917880" cy="1587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1752120" y="990720"/>
            <a:ext cx="71629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n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623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WRX ponúka služb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providera Globalstar Europe (AST), SIM karty: len paušálne (Post-Pay, predplatené karty boli zrušené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operátora GSM – Vodafone, SIM karty: podľa definicie Vodafone UK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523880" cy="619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9480" y="3352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833400" cy="493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3886200"/>
            <a:ext cx="129528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572000"/>
            <a:ext cx="1295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181480"/>
            <a:ext cx="1295280" cy="337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Fri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52120" y="990720"/>
            <a:ext cx="71629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195640" y="2841480"/>
            <a:ext cx="6480000" cy="3395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152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297168" presetSubtype="174077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97168" presetSubtype="174077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97168" presetSubtype="174077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-360"/>
            <a:ext cx="8229600" cy="5791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1941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n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475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2 aktívne GEO satelity, žiadna záloha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Satelity </a:t>
            </a:r>
            <a:r>
              <a:rPr b="1" lang="sk-SK" sz="2000" spc="-1" strike="noStrike">
                <a:solidFill>
                  <a:srgbClr val="000000"/>
                </a:solidFill>
                <a:latin typeface="Arial Narrow"/>
              </a:rPr>
              <a:t>nie sú</a:t>
            </a: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 samostatne inteligentné, v prípade narušenia pozemnej infraštruktúry (hlavne riadiaceho centra) je systém </a:t>
            </a:r>
            <a:r>
              <a:rPr b="1" lang="sk-SK" sz="2000" spc="-1" strike="noStrike">
                <a:solidFill>
                  <a:srgbClr val="000000"/>
                </a:solidFill>
                <a:latin typeface="Arial Narrow"/>
              </a:rPr>
              <a:t>nepoužiteľný</a:t>
            </a: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Systém používa pozemné brány (primárne a regionálne), centrálne riadiace stredisko, 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Sieť poskytuje mobilné hlasové a dátové služby (SMS-GSM, SMS-email, WAP, Fax, Internet &amp; Data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Dostupná prenosová rýchlosť 9,6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Systém je tzv. DualBa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Satellite / GSM 90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38480" cy="3925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615960" cy="914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1752480" y="990720"/>
            <a:ext cx="55627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00" y="1447560"/>
            <a:ext cx="51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Thuraya onedlho spustí (jún 2005) novú službu s názvom THURAYA DSL, ktorá umožní vysokorýchlostný prenos dá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Prenosová rýchlosť 144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Jednoduché prepojenie satelitného IP modemu s Vašim PC pomocou USB, Ethernet, Bluetoo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Aplikác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HighSpeed internet &amp; emai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LAN, VP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Video stream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Výrobca IP modemu Hughes Network Sys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615960" cy="914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1752480" y="990720"/>
            <a:ext cx="55627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125360"/>
            <a:ext cx="16160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37920" y="14475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Jeden provider - Thuraya, sieť predajcov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Provider uzatvára roaming s GSM operáto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GSM operátor uzatvára roaming s Thurayou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Dostupné predplatené karty Thuraya (GSM predplatené karty nie je možné použiť)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Dostupný mesačný paušál Thuraya, alebo GSM mesačný paušál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V prípade použitia GSM karty, drahšia prevádzka v satelitnom móde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Spoplatkovanie na základe Zó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61596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1752480" y="990720"/>
            <a:ext cx="55627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n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WRX ponúka SIM karty Thuraya pre hlasové a datové služb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 Narrow"/>
              </a:rPr>
              <a:t>SIM karty: predplatené (Pre-Pay), paušálne (Post-Pay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61596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6477120" cy="4362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>
            <a:off x="1752480" y="990720"/>
            <a:ext cx="55627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297168" presetSubtype="1741039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297168" presetSubtype="1741039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ovnanie telefó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9880" y="2209320"/>
            <a:ext cx="4724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 Narrow"/>
              </a:rPr>
              <a:t>Popis z ľava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Motorola 9500 (Iridium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TelitSat-550 (Globalsta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Ascom aj Hughes (Thuraya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Narrow"/>
              </a:rPr>
              <a:t>Iridium 9505 a 9505A (Iridium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2322360" cy="2743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flipH="1">
            <a:off x="1752480" y="990720"/>
            <a:ext cx="701064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74063616" presetSubtype="1741078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0" presetSubtype="1741091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0" presetSubtype="1741091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0" presetSubtype="1741091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0" presetSubtype="1741091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0" presetSubtype="1741091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statné siete v ponuke WRX Slovak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 Narrow"/>
              </a:rPr>
              <a:t>Okrem prezentovaných sietí Iridium, Globalstar a Thuraya, ponúkame aj produkty a služby siete Inmarsat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 Narrow"/>
              </a:rPr>
              <a:t>Inmarsat ponúka vysokorýchlostný prenos dát, pokrýva súš, moria a oceány (mimo zemských pólov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 Narrow"/>
              </a:rPr>
              <a:t>Ak hľadáte prenos dát vo veľkosti 492 kbit/s ktorá Vám umožní prenos video telefónie a preojenie s 3G sietami vyberte si sieť Inmarsa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 Narrow"/>
              </a:rPr>
              <a:t>Viac informácii v našej spoločnosti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869000"/>
            <a:ext cx="2664000" cy="1457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H="1">
            <a:off x="1752480" y="990720"/>
            <a:ext cx="701064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Ďakujeme za pozorn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223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 Narrow"/>
              </a:rPr>
              <a:t>Kontaktujte ná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WRX Slovaki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Landererova 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811 09 Bratislav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http://www.wrx.s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3160" y="981000"/>
            <a:ext cx="8070840" cy="97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4822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255100" presetSubtype="268413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-360"/>
            <a:ext cx="82296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193824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0" presetSubtype="268481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934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Celosvetová satelitn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kutočne globálne pokrytie plané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66 aktívnych a 12 záložných LEO satelitov na 6 orbitálnych dráhach ( na jednom orbite je 11 aktívnych satelitov 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Inteligencia v každom satelite, aj v prípade zničenia pozemnej infraštruktúry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Pozemné brány (Gateways) slúžia pre prepojenie s pozemnými terestriálnymi sieťami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Z dôvodu bezpečnosti je systém používaný pre vládne účely (cez 20.000 aparátov pre US Gov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ieť poskytuje mobilné hlasové a dátové služby (SMS, SMS-email, SBD, Fax, International SOS, Ship Security, Internet alebo LAN, Tracking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Maximálna prenosová rýchlosť 9,6 kb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Bezplatné príjmanie SMS a Email správ na Iridium zariadenia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Bezplatné zasielanie SMS a Email správ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Jednoduché spoplatkovanie - predplatené služby alebo mesačný paušá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480" y="765000"/>
            <a:ext cx="518184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2600" y="2057400"/>
            <a:ext cx="328140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12572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934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ko pracuje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752480" y="765000"/>
            <a:ext cx="5483520" cy="97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664000" cy="158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2303640" cy="22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587700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Každý satelit pozostáva zo 48 buniek - Spot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3573360"/>
            <a:ext cx="28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66 aktívnych satelitov, 780 km nad zemským povrchom (LE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141720"/>
            <a:ext cx="26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Satelity sú vzájomne prepojené – CrossLink – jedinečná technológia siete Iri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152280"/>
            <a:ext cx="112572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9343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užitie Iridia pre hovor na PST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5120" y="154152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0" y="121140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97320" y="108432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44840" y="108432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638360" y="121140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0" y="1566720"/>
            <a:ext cx="758880" cy="56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800280" y="3517920"/>
            <a:ext cx="57276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805320" y="4356000"/>
            <a:ext cx="54648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3360" y="4546440"/>
            <a:ext cx="619200" cy="74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7240" y="5041800"/>
            <a:ext cx="619200" cy="743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66600" y="5670720"/>
            <a:ext cx="619200" cy="742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685800" y="4584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5846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0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57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57240" y="4051440"/>
            <a:ext cx="619200" cy="74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6194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2">
            <a:lum bright="-22000"/>
          </a:blip>
          <a:srcRect l="0" t="0" r="0" b="67801"/>
          <a:stretch/>
        </p:blipFill>
        <p:spPr>
          <a:xfrm>
            <a:off x="7470720" y="3857760"/>
            <a:ext cx="1219320" cy="608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rcRect l="44673" t="39716" r="41738" b="22691"/>
          <a:stretch/>
        </p:blipFill>
        <p:spPr>
          <a:xfrm>
            <a:off x="7467480" y="4343400"/>
            <a:ext cx="77148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8458200" y="2057400"/>
            <a:ext cx="7632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933960" y="1752120"/>
            <a:ext cx="1523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257440" y="1599840"/>
            <a:ext cx="1676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05320" y="160020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54360" y="4114800"/>
          <a:ext cx="1047600" cy="669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54360" y="4114800"/>
                    <a:ext cx="1047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124080" y="3124080"/>
          <a:ext cx="914400" cy="905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24080" y="3124080"/>
                    <a:ext cx="9144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505320" y="1600200"/>
            <a:ext cx="75960" cy="167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3987720"/>
          <a:ext cx="723960" cy="685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00400" y="3987720"/>
                    <a:ext cx="723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H="1">
            <a:off x="2819160" y="4267080"/>
            <a:ext cx="53316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7124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2600" y="1859040"/>
            <a:ext cx="504504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oužitie satellite cross links  k  brá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ojenie  k Iridium Switch-u (Sieme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epojenie na PSTN alebo inú destinác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1240" y="44956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06280" y="469908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>
            <a:off x="1590840" y="4952880"/>
            <a:ext cx="618840" cy="743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5200" y="45784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4952880"/>
            <a:ext cx="53341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olanie z PSTN na Iridium je obdobné - reverz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okálna pobočková ústredňa uskutoční spojenie prostredníctvom PSTN volaním +8816</a:t>
            </a: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 a +88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žnosť spojenia priamo alebo cez Iridium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19720"/>
            <a:ext cx="2210040" cy="457200"/>
          </a:xfrm>
          <a:custGeom>
            <a:avLst/>
            <a:gdLst>
              <a:gd name="textAreaLeft" fmla="*/ 276120 w 2210040"/>
              <a:gd name="textAreaRight" fmla="*/ 1933920 w 2210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anie na PSTN / na Iri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1"/>
          <a:stretch/>
        </p:blipFill>
        <p:spPr>
          <a:xfrm>
            <a:off x="7451640" y="133200"/>
            <a:ext cx="1125720" cy="70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752480" y="765000"/>
            <a:ext cx="5483520" cy="97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užitie Iridia ako nezávislej sie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5120" y="123660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90648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97320" y="77940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444840" y="77940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638360" y="90648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0" y="1262160"/>
            <a:ext cx="758880" cy="56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800280" y="3213000"/>
            <a:ext cx="572760" cy="8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3360" y="4241880"/>
            <a:ext cx="619200" cy="74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7240" y="4737240"/>
            <a:ext cx="619200" cy="74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6600" y="5365800"/>
            <a:ext cx="619200" cy="743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685800" y="4279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428004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77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27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57240" y="3746520"/>
            <a:ext cx="619200" cy="743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5889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2">
            <a:lum bright="-22000"/>
          </a:blip>
          <a:srcRect l="0" t="0" r="0" b="67801"/>
          <a:stretch/>
        </p:blipFill>
        <p:spPr>
          <a:xfrm>
            <a:off x="7470720" y="3552840"/>
            <a:ext cx="1219320" cy="608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rcRect l="44673" t="39716" r="41738" b="22691"/>
          <a:stretch/>
        </p:blipFill>
        <p:spPr>
          <a:xfrm>
            <a:off x="7467480" y="4038480"/>
            <a:ext cx="771480" cy="1600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 flipV="1">
            <a:off x="8458200" y="1752480"/>
            <a:ext cx="7632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933960" y="1447920"/>
            <a:ext cx="15238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257440" y="1295280"/>
            <a:ext cx="16765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505320" y="129528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54360" y="3809880"/>
          <a:ext cx="1047600" cy="669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54360" y="3809880"/>
                    <a:ext cx="1047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124080" y="2819520"/>
          <a:ext cx="914400" cy="904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24080" y="2819520"/>
                    <a:ext cx="9144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00400" y="3683160"/>
          <a:ext cx="723960" cy="685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00400" y="3683160"/>
                    <a:ext cx="723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137124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35480" y="1762200"/>
            <a:ext cx="38037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tacionárne preveden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apojené na lokálnu 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telitný spoj z budovy (cross lin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enovo najefektívnejšia možnosť volania Iridium - Iri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006280" y="439416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0"/>
          <a:stretch/>
        </p:blipFill>
        <p:spPr>
          <a:xfrm>
            <a:off x="1590840" y="4667400"/>
            <a:ext cx="618840" cy="742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65200" y="427356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1"/>
          <a:srcRect l="76161" t="7603" r="0" b="38417"/>
          <a:stretch/>
        </p:blipFill>
        <p:spPr>
          <a:xfrm>
            <a:off x="885960" y="2730600"/>
            <a:ext cx="11736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2"/>
          <a:srcRect l="76161" t="7603" r="0" b="38417"/>
          <a:stretch/>
        </p:blipFill>
        <p:spPr>
          <a:xfrm>
            <a:off x="1025640" y="2774880"/>
            <a:ext cx="117360" cy="30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3"/>
          <a:srcRect l="76161" t="12639" r="0" b="38417"/>
          <a:stretch/>
        </p:blipFill>
        <p:spPr>
          <a:xfrm>
            <a:off x="1155600" y="2846520"/>
            <a:ext cx="117720" cy="277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28800" y="303372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44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580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076400" y="30477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752120" y="1295280"/>
            <a:ext cx="175284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18960" y="1447920"/>
            <a:ext cx="533160" cy="1447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048120"/>
            <a:ext cx="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5800" y="3124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124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114800"/>
            <a:ext cx="152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5320" y="4051440"/>
            <a:ext cx="54648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229360"/>
            <a:ext cx="5410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šetky klapky PBX majú prístup na Iridium podľa nastavení 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telitná sieť môže byť použitá a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imárna, </a:t>
            </a: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áloha alebo nezávislá sie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7451640" y="133200"/>
            <a:ext cx="1125720" cy="70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H="1">
            <a:off x="1752480" y="692280"/>
            <a:ext cx="5483520" cy="93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IM kar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51640" y="133200"/>
            <a:ext cx="1125720" cy="703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>
            <a:off x="1752480" y="692280"/>
            <a:ext cx="5483520" cy="93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1371600"/>
            <a:ext cx="6705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9999"/>
                </a:solidFill>
                <a:latin typeface="Arial Narrow"/>
              </a:rPr>
              <a:t>Predplatené služby (Pre-Paid SI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Účastník si predkupuje AirTime (prevádzkový čas), obdoba Easy alebo Prima kar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Žiaden mesačný poplatok - žiadna zmlu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Je dostupných niekoľko AirTime balíkov, od veľkosti balíka záleží aj cena hovorné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Maximálna dĺžka platnosti AirTime sú 2 ro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997360"/>
            <a:ext cx="6705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 Narrow"/>
              </a:rPr>
              <a:t>Mesačný paušál (Post-Paid SI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Účastník je mesačne spolatkovaný paušálom + fixná tarifa za volanie - Total Free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Spísanie zmluvy o prevádz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Nutná garancia embosovanou kartou (DinersClub, VISA, EuroCard /MasterCard, American Express, J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380360" y="1523880"/>
            <a:ext cx="1243080" cy="99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380360" y="299736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465300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99"/>
                </a:solidFill>
                <a:latin typeface="Arial Narrow"/>
              </a:rPr>
              <a:t>Crew 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Pozostáva z jednej hlavnej Post-Paid SIM karty (mesačný paušál) a viacerých Scratch kar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Majiteľ Crew Calling Post-Paid karty predáva AirTime - tzv. Scratch karty -  za svoje ceny ostatný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 Narrow"/>
              </a:rPr>
              <a:t>Systém sa hlavne využíva na lodiach, na stavbách, v armáde, v cestovných agentúrach - kapitán predáva posádke alebo cestujúcim Air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380360" y="465300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380360" y="5589720"/>
            <a:ext cx="12380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0" presetSubtype="2136664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0" presetSubtype="2136664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0" presetSubtype="2136664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0" presetSubtype="2136664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0" presetSubtype="2136664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0" presetSubtype="2136678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0" presetSubtype="210711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0" presetSubtype="210711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0" presetSubtype="210711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0" presetSubtype="210711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-360"/>
            <a:ext cx="8229600" cy="5791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348000" y="1927080"/>
            <a:ext cx="28083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gionálna satelitná sie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07680"/>
            <a:ext cx="50421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44 aktívnych, 4 záložné LEO satelity, 8 orbitálnych dráh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v roku 2006 sa plánuje vypustenie nových 56 LEO a 4 GEO satelito v pásme 2 GHz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atelity </a:t>
            </a:r>
            <a:r>
              <a:rPr b="1" lang="sk-SK" sz="1800" spc="-1" strike="noStrike">
                <a:solidFill>
                  <a:srgbClr val="000000"/>
                </a:solidFill>
                <a:latin typeface="Arial Narrow"/>
              </a:rPr>
              <a:t>nie sú</a:t>
            </a: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 samostatne inteligentné, v prípade narušenia pozemnej infraštruktúry je systém </a:t>
            </a:r>
            <a:r>
              <a:rPr b="1" lang="sk-SK" sz="1800" spc="-1" strike="noStrike">
                <a:solidFill>
                  <a:srgbClr val="000000"/>
                </a:solidFill>
                <a:latin typeface="Arial Narrow"/>
              </a:rPr>
              <a:t>nepoužiteľný</a:t>
            </a: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Pozemné brány (Gateways) slúžia k prepojeniu na terestriálne siete, zároveň slúžia ako logika satelitov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ystém je tzv. TriBand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atellite/GSM900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atellite/CDMA/AMP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Sieť poskytuje mobilné hlasové a dátové služby (SMS -obmedzené, Fax, Internet &amp; Data 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 Narrow"/>
              </a:rPr>
              <a:t>Maximálna prenosová rýchlosť 9,6 kb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3056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048120" cy="1328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523880" cy="619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1752120" y="990720"/>
            <a:ext cx="716292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7:17:57Z</dcterms:created>
  <dc:creator>Matus Zelem</dc:creator>
  <dc:description/>
  <cp:keywords/>
  <dc:language>en-US</dc:language>
  <cp:lastModifiedBy>Matúš Zelem</cp:lastModifiedBy>
  <dcterms:modified xsi:type="dcterms:W3CDTF">2005-05-06T15:28:06Z</dcterms:modified>
  <cp:revision>65</cp:revision>
  <dc:subject/>
  <dc:title>Prehlad satelitnej komunikacie</dc:title>
</cp:coreProperties>
</file>