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-3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33880" cy="457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8520" y="71280"/>
            <a:ext cx="654120" cy="633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222120"/>
            <a:ext cx="415800" cy="411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24480" y="6629400"/>
            <a:ext cx="266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Myriad Web CE"/>
              </a:rPr>
              <a:t>WRX Satellite Sol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1752120"/>
            <a:ext cx="60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 Narrow"/>
              </a:rPr>
              <a:t>Satelitná komunikác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Globálna satelitná sieť Ir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752480" cy="109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1371600" y="2666880"/>
            <a:ext cx="36576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124080" y="3505320"/>
            <a:ext cx="36576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0" presetSubtype="304836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 Narrow"/>
              </a:rPr>
              <a:t>Predplatené služby (Pre-Pay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1395360"/>
          <a:ext cx="7772400" cy="4548240"/>
        </p:xfrm>
        <a:graphic>
          <a:graphicData uri="http://schemas.openxmlformats.org/drawingml/2006/table">
            <a:tbl>
              <a:tblPr/>
              <a:tblGrid>
                <a:gridCol w="4724280"/>
                <a:gridCol w="3048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tupná minutá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ľa ponuky predplatených balík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ačný a mesačný paušá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iká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sekú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irácia ka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dobitím sa expirácia  oddia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anie ISU-ISU, ISU-PSTN, ISU-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poplato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merovanie na hlasovú schrán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Áno (bezplat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merovanie na iný telefón v sietí alebo do inej si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ama voľba ISU z PSTN alebo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Áno (bezplatný príje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riama voľba ISU cez Iridium Gate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spoplatkovaný príje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jem SMS, email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Áno (bezplatný príje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chádzajúce SMS, email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poplato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ovanie Crew Ca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ing &amp; Follow 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áranie skupín a obmedzenie príjmu alebo vol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platné pridelenie email adresy (msg.iridium.co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Áno (bezplat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 Narrow"/>
              </a:rPr>
              <a:t>Predplatené služby (Pre-Pay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súčasnosti sú v ponuke balí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počet minút volania z ISU - PSTN </a:t>
            </a:r>
            <a:r>
              <a:rPr b="1" lang="sk-SK" sz="16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ISU - IS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75 minút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150 minút (platnosť 3 mesi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00 minút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1000 minút (platnosť 12 mesiac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3000 minút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6000 minút (platnosť 24 mesiac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000 minút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10000 minút (platnosť 24 mesiac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Ľubovoľná kombinácia balíkov je samozrejme možná - nie je podstatné aký balík bol prvý aktivova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aximálna platnosť akejkoľvek minutáže sú dva r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 Narrow"/>
              </a:rPr>
              <a:t>Mesačný paušál (Post-Pay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1395360"/>
          <a:ext cx="7772400" cy="4548240"/>
        </p:xfrm>
        <a:graphic>
          <a:graphicData uri="http://schemas.openxmlformats.org/drawingml/2006/table">
            <a:tbl>
              <a:tblPr/>
              <a:tblGrid>
                <a:gridCol w="4724280"/>
                <a:gridCol w="3048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tupná minutá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ez obmedz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ačný a mesačný paušá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iká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sekú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irácia ka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 (iba ak vypovedaním zmluv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anie ISU-ISU, ISU-PSTN, ISU-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poplato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merovanie na hlasovú schrán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Áno (bezplat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merovanie na iný telefón v sietí alebo do inej si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poplato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ama voľba ISU z PSTN alebo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Áno (bezplatný príje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riama voľba ISU cez Iridium Gate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spoplatkovaný príje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jem SMS, email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Áno (bezplatný príje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chádzajúce SMS, email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poplato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ovanie Crew Ca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poplato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ing &amp; Follow 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poplato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áranie skupín a obmedzenie príjmu alebo vol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(poplato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platné pridelenie email adresy (msg.iridium.co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Áno (bezplat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Ďakujeme za pozornosť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Kontaktujte ná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WRX Slova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ndererov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811 09 Bratis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ttp://www.wrx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ttp://www.iridium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648320" y="990720"/>
            <a:ext cx="4044960" cy="5333760"/>
            <a:chOff x="4648320" y="990720"/>
            <a:chExt cx="4044960" cy="53337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4648320" y="990720"/>
              <a:ext cx="404496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4648320" y="990720"/>
              <a:ext cx="4044960" cy="53337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1295280"/>
            <a:ext cx="1371600" cy="8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533160" y="990720"/>
            <a:ext cx="380988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277084" presetSubtype="30492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 Narrow"/>
              </a:rPr>
              <a:t>Medzinárodná predvoľba a identifikác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0120" y="1268280"/>
            <a:ext cx="1054080" cy="131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199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koordinované medzinárodné predvo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08816 (alebo +88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08817 (alebo +8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aždý účastník siete pri aktivácií akejkoľvek služby obdrží jedinečnú SIM kar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rátane čísla pre hlasové služby (Voice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rátane čísla pre datové služby (Data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lné účastnícke číslo pozostáva celkovo zo 14 čís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0000"/>
                </a:solidFill>
                <a:latin typeface="Arial"/>
              </a:rPr>
              <a:t>008816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predvoľba) </a:t>
            </a:r>
            <a:r>
              <a:rPr b="0" lang="sk-SK" sz="1800" spc="-1" strike="noStrike">
                <a:solidFill>
                  <a:srgbClr val="ff0000"/>
                </a:solidFill>
                <a:latin typeface="Arial"/>
              </a:rPr>
              <a:t>XX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identifikácia služby) </a:t>
            </a:r>
            <a:r>
              <a:rPr b="0" lang="sk-SK" sz="1800" spc="-1" strike="noStrike">
                <a:solidFill>
                  <a:srgbClr val="ff0000"/>
                </a:solidFill>
                <a:latin typeface="Arial"/>
              </a:rPr>
              <a:t>XXXX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identifikátor účastní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lavné rozdelenie služie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0769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a0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a03a"/>
                </a:solidFill>
                <a:latin typeface="Arial"/>
              </a:rPr>
              <a:t>Hlasové (voice)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olania Ou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aktivovanie - uskutočnenie hovo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 rámci siete Iridium (bez nutnosti použitia akejkoľvek pozemnej siet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 všetkých pozemných sietí (PSTN, Cellular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 iných satelitných si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olania 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ríjem hovo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 rámci siete Iridium (bez nutnosti použitia akejkoľvek pozemnej siet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 väčšiny pozemných sietí (volanie účastníkov Iridia v SR povoľujú všetci operátori - Eurotel Bratislava, Orange Slovensko, Slovak Tele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 iných satelitných si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esmerovanie hov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hlasovú schrán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iné účastnícke číslo v si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inú pozemnú alebo satelitnú stani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lavné rozdelenie služie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a0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a03a"/>
                </a:solidFill>
                <a:latin typeface="Arial"/>
              </a:rPr>
              <a:t>Datov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M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v rámci Iridium staníc - 160 znak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astná email adres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ri aktivácií služieb obdržíte email adresu v tvare 008816xxxxxxxx@msg.iridium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ríjem a vysielanie email sprá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mail v tvare SM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ríjem a vysielanie email správy cez SMS službu v rámci Iridia a pozemných siet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ata Servic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Dial-Up, Direct 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BD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aketová služba na princípe pozemnej GPRS služ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ax &amp; Messaging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ríjem a vysielanie faxových správ v norme Group3, zasielanie text email správ na fax, outbound data messaging - napríklad zasielanie GPS koordinátov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296132" presetSubtype="305324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296132" presetSubtype="305324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296132" presetSubtype="305324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296132" presetSubtype="305324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296132" presetSubtype="305324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296132" presetSubtype="305324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296132" presetSubtype="305324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296132" presetSubtype="305324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lavné rozdelenie služie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a0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a03a"/>
                </a:solidFill>
                <a:latin typeface="Arial"/>
              </a:rPr>
              <a:t>Ostatn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ging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jednosmerné služby - príjem správ na pager, aktiváciou je pridelená vlastná email adre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ging Follow M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doplnková služba k hlasovej službe - zabezpečí doručenie odkazu na váš pager, pokiaľ máte satelitný telefón vypnut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nternational S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v prípade núdze vytočíte *707 [*SOS] a bude vám poskytnutá pomoc - vrátane odvoz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hip Security &amp; Ale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re námornú dopravu a preprav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76291840" presetSubtype="30539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76291840" presetSubtype="30539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6291840" presetSubtype="30539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76291840" presetSubtype="30539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6291840" presetSubtype="305393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 Narrow"/>
              </a:rPr>
              <a:t>Iridium Gatewa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 ľubovoľný operátor neumožňuje volať predvoľby +8816 a +8817, je možné použiť Iridium Gateway - vytočiť pevnú linku v USA, následne vytočiť číslo účast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jímateľ hovoru je spoplatkovaný (jediné spoplatkovanie v sieti Iridium za príj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olanie účastníka cez Iridium Gateway je možné zakázať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20000" y="4797360"/>
            <a:ext cx="15843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ôležité prvky služie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27040"/>
            <a:ext cx="815328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príjem hovoru a dát </a:t>
            </a:r>
            <a:r>
              <a:rPr b="1" lang="sk-SK" sz="1600" spc="-1" strike="noStrike" u="sng">
                <a:solidFill>
                  <a:srgbClr val="009999"/>
                </a:solidFill>
                <a:uFillTx/>
                <a:latin typeface="Arial"/>
              </a:rPr>
              <a:t>neplatí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okrem volania cez Iridium Gateway, ak je povolen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sielanie Email a SMS Email správ účastníkovi siete </a:t>
            </a:r>
            <a:r>
              <a:rPr b="1" lang="sk-SK" sz="1600" spc="-1" strike="noStrike" u="sng">
                <a:solidFill>
                  <a:srgbClr val="009999"/>
                </a:solidFill>
                <a:uFillTx/>
                <a:latin typeface="Arial"/>
              </a:rPr>
              <a:t>neplatí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yskúšajte na http://www.iridium.sk/messag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 väčšom počte účastníkov môžte vytvárať </a:t>
            </a:r>
            <a:r>
              <a:rPr b="1" lang="sk-SK" sz="1600" spc="-1" strike="noStrike" u="sng">
                <a:solidFill>
                  <a:srgbClr val="ffa03a"/>
                </a:solidFill>
                <a:uFillTx/>
                <a:latin typeface="Arial"/>
              </a:rPr>
              <a:t>vlastné hovorové skup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bmedziť príjem z iných staníc mimo Vašej skup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bmedziť volanie z Vašej stanice na iné čísla, okrem čísiel z Vašej skup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Jednoduchá tarifiká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arifa 1 : volanie Iridium - Iridium (alebo tzv. ISU - IS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arifa 2 : volanie Iridium - PSTN alebo Cellular (alebo tzv. ISU - PST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arifa 3 : volanie Iridium - iná satelitná sieť (alebo tzv. ISU - S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žiadne delenie do zón, žiadne príplatky za volanie z oceánov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 Narrow"/>
              </a:rPr>
              <a:t>Formy spoplatkovan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9999"/>
                </a:solidFill>
                <a:latin typeface="Arial"/>
              </a:rPr>
              <a:t>Predplatené služby (Pre-Paid SI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astník si predkupuje AirTime (prevádzkový čas), obdoba Easy alebo Prima kar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iaden mesačný poplatok - žiadna zmlu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 dostupných niekoľko AirTime balíkov, od veľkosti balíka záleží aj cena hovor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ximálna dĺžka platnosti AirTime sú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4038480"/>
            <a:ext cx="6705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Mesačný paušál (Post-Paid SI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astník je mesačne spolatkovaný paušálom + fixná tarifa za volanie - Total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ísanie zmluvy o prevádz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utná garancia embosovanou kartou (DinersClub, VISA, EuroCard /MasterCard, American Express, J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0" y="152388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58000" y="41148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0" presetSubtype="1763114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0" presetSubtype="1763114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0" presetSubtype="1763114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0" presetSubtype="1763114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0" presetSubtype="1763114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0" presetSubtype="1763118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 Narrow"/>
              </a:rPr>
              <a:t>Formy spoplatkovan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6553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</a:rPr>
              <a:t>Crew C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zostáva z jednej hlavnej Post-Paid SIM karty (mesačný paušál) a viacerých Scratch kar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jiteľ Crew Calling Post-Paid karty predáva AirTime - tzv. Scratch karty -  za svoje ceny ostatný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ystém sa hlavne využíva na lodiach, na stavbách, v armáde, v cestovných agentúrach - kapitán predáva posádke alebo cestujúcim Air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571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34320" y="1523880"/>
            <a:ext cx="2209680" cy="1768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22096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0" presetSubtype="1763405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0" presetSubtype="1763405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0" presetSubtype="1763405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0" presetSubtype="1763405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7:17:57Z</dcterms:created>
  <dc:creator>Matus Zelem</dc:creator>
  <dc:description/>
  <cp:keywords/>
  <dc:language>en-US</dc:language>
  <cp:lastModifiedBy>Matúš Zelem</cp:lastModifiedBy>
  <dcterms:modified xsi:type="dcterms:W3CDTF">2005-05-09T12:07:08Z</dcterms:modified>
  <cp:revision>228</cp:revision>
  <dc:subject>Globalna siet Iridium - sluzby siete</dc:subject>
  <dc:title>Satelitna komunikacia</dc:title>
</cp:coreProperties>
</file>